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3187-EC80-41DC-90A3-B3010D4B7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ABF4-01AE-4ED4-B15B-DFECE8FA4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824F-80AD-4D86-986E-13D1DB31C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0CB0-CBC3-475F-9C14-FA5F3326F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2C8F1-1EB1-4926-98EB-50B5280D5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76E73-051E-4CD9-A11E-F2F3DF9DE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0FBB8-5B47-4D43-8661-0C36D9BAD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D92AB-0E23-4D5F-8501-30BAB637B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6BC4F-B2C5-402A-A9FE-6A002985C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7EF74-722D-4861-858D-6E3D881B7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C96BD-BD37-4B7C-9524-04060D605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4945-2087-4372-BA1D-045CA93B9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D6E27-5F23-4123-9EB9-7DF6AB964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13237-465E-459F-A28B-311BC35CF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563A9-7194-4E95-B32A-A0B1B2D58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6764C-03DE-4213-A53F-38A499413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D523E-6E2B-4550-B5A5-263408451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5615-2829-4CD2-AE0F-6367F59A4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B4C0-2746-4FFF-B2FE-5764E957A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3E07-E627-4843-907D-80EF815F3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AA8C-0CEA-4BF2-BC8D-34255FE80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B0B2-1623-4DEC-A3BB-AA11310E9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C8AE-9616-435B-A330-7E390FA92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B79B-31B8-40E4-978F-73CBE259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EB2DD-67A5-4C73-B2AF-67FA4743D2A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561C6-721F-451D-BCAA-E686A983605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bulgakov.ru/" TargetMode="External"/><Relationship Id="rId2" Type="http://schemas.openxmlformats.org/officeDocument/2006/relationships/hyperlink" Target="http://www.bulgakov.ru/" TargetMode="External"/><Relationship Id="rId3" Type="http://schemas.openxmlformats.org/officeDocument/2006/relationships/hyperlink" Target="http://www.bulgakov.ru/" TargetMode="External"/><Relationship Id="rId4" Type="http://schemas.openxmlformats.org/officeDocument/2006/relationships/hyperlink" Target="http://www.bulgakov.ru/galleries/msk" TargetMode="External"/><Relationship Id="rId5" Type="http://schemas.openxmlformats.org/officeDocument/2006/relationships/hyperlink" Target="http://www.bulgakov.ru/galleries/msk" TargetMode="External"/><Relationship Id="rId6" Type="http://schemas.openxmlformats.org/officeDocument/2006/relationships/hyperlink" Target="http://www.bulgakov.ru/galleries/msk" TargetMode="External"/><Relationship Id="rId7" Type="http://schemas.openxmlformats.org/officeDocument/2006/relationships/hyperlink" Target="http://www.bulgakov.ru/galleries/msk" TargetMode="External"/><Relationship Id="rId8" Type="http://schemas.openxmlformats.org/officeDocument/2006/relationships/hyperlink" Target="http://www.bulgakov.ru/galleries/msk" TargetMode="External"/><Relationship Id="rId9" Type="http://schemas.openxmlformats.org/officeDocument/2006/relationships/hyperlink" Target="http://www.bulgakov.ru/galleries/msk" TargetMode="External"/><Relationship Id="rId10" Type="http://schemas.openxmlformats.org/officeDocument/2006/relationships/hyperlink" Target="http://www.bulgakov.ru/galleries/msk" TargetMode="External"/><Relationship Id="rId11" Type="http://schemas.openxmlformats.org/officeDocument/2006/relationships/hyperlink" Target="http://world.lib.ru/s/smirnow_t_l/bulgakov.shtml" TargetMode="External"/><Relationship Id="rId12" Type="http://schemas.openxmlformats.org/officeDocument/2006/relationships/hyperlink" Target="http://world.lib.ru/s/smirnow_t_l/bulgakov.shtml" TargetMode="External"/><Relationship Id="rId13" Type="http://schemas.openxmlformats.org/officeDocument/2006/relationships/hyperlink" Target="http://world.lib.ru/s/smirnow_t_l/bulgakov.shtml" TargetMode="External"/><Relationship Id="rId14" Type="http://schemas.openxmlformats.org/officeDocument/2006/relationships/hyperlink" Target="http://world.lib.ru/s/smirnow_t_l/bulgakov.shtml" TargetMode="External"/><Relationship Id="rId15" Type="http://schemas.openxmlformats.org/officeDocument/2006/relationships/hyperlink" Target="http://world.lib.ru/s/smirnow_t_l/bulgakov.shtml" TargetMode="External"/><Relationship Id="rId16" Type="http://schemas.openxmlformats.org/officeDocument/2006/relationships/hyperlink" Target="http://world.lib.ru/s/smirnow_t_l/bulgakov.shtml" TargetMode="External"/><Relationship Id="rId17" Type="http://schemas.openxmlformats.org/officeDocument/2006/relationships/hyperlink" Target="http://world.lib.ru/s/smirnow_t_l/bulgakov.shtml" TargetMode="External"/><Relationship Id="rId18" Type="http://schemas.openxmlformats.org/officeDocument/2006/relationships/hyperlink" Target="http://obozrevatel.com/news/2006/1/27/83471.htm" TargetMode="External"/><Relationship Id="rId19" Type="http://schemas.openxmlformats.org/officeDocument/2006/relationships/hyperlink" Target="http://obozrevatel.com/news/2006/1/27/83471.htm" TargetMode="External"/><Relationship Id="rId20" Type="http://schemas.openxmlformats.org/officeDocument/2006/relationships/hyperlink" Target="http://obozrevatel.com/news/2006/1/27/83471.htm" TargetMode="External"/><Relationship Id="rId21" Type="http://schemas.openxmlformats.org/officeDocument/2006/relationships/hyperlink" Target="http://obozrevatel.com/news/2006/1/27/83471.htm" TargetMode="External"/><Relationship Id="rId22" Type="http://schemas.openxmlformats.org/officeDocument/2006/relationships/hyperlink" Target="http://obozrevatel.com/news/2006/1/27/83471.htm" TargetMode="External"/><Relationship Id="rId23" Type="http://schemas.openxmlformats.org/officeDocument/2006/relationships/hyperlink" Target="http://obozrevatel.com/news/2006/1/27/83471.htm" TargetMode="External"/><Relationship Id="rId2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&#1042;&#1086;&#1083;&#1072;&#1085;&#1076;.doc" TargetMode="External"/><Relationship Id="rId2" Type="http://schemas.openxmlformats.org/officeDocument/2006/relationships/hyperlink" Target="&#1042;&#1086;&#1083;&#1072;&#1085;&#1076;.doc" TargetMode="External"/><Relationship Id="rId3" Type="http://schemas.openxmlformats.org/officeDocument/2006/relationships/hyperlink" Target="&#1042;&#1086;&#1083;&#1072;&#1085;&#1076;.doc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&#1073;&#1072;&#1083; &#1074; &#1095;&#1077;&#1089;&#1090;&#1100; &#1042;&#1086;&#1083;&#1072;&#1085;&#1076;&#1072;.doc" TargetMode="External"/><Relationship Id="rId3" Type="http://schemas.openxmlformats.org/officeDocument/2006/relationships/hyperlink" Target="&#1073;&#1072;&#1083; &#1074; &#1095;&#1077;&#1089;&#1090;&#1100; &#1042;&#1086;&#1083;&#1072;&#1085;&#1076;&#1072;.doc" TargetMode="External"/><Relationship Id="rId4" Type="http://schemas.openxmlformats.org/officeDocument/2006/relationships/hyperlink" Target="&#1073;&#1072;&#1083; &#1074; &#1095;&#1077;&#1089;&#1090;&#1100; &#1042;&#1086;&#1083;&#1072;&#1085;&#1076;&#1072;.doc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&#1082;&#1086;&#1090; &#1041;&#1077;&#1075;&#1077;&#1084;&#1086;&#1090;.doc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Мистика в творчестве Михаила Булгакова</a:t>
            </a:r>
            <a:br>
              <a:rPr sz="4400"/>
            </a:b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(по роману «Мастер и Маргарита»)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5257440" y="3200400"/>
            <a:ext cx="35053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готовил ученик 11В класс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ш № 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арк Лев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7200" y="2743200"/>
            <a:ext cx="43434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Спасибо за внимание!!!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752480" y="1743120"/>
            <a:ext cx="57150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Информационные ресурсы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www.bulgakov.r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http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Arial"/>
                <a:hlinkClick r:id="rId5"/>
              </a:rPr>
              <a:t>://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Arial"/>
                <a:hlinkClick r:id="rId6"/>
              </a:rPr>
              <a:t>www.bulgakov.ru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Arial"/>
                <a:hlinkClick r:id="rId7"/>
              </a:rPr>
              <a:t>/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Arial"/>
                <a:hlinkClick r:id="rId8"/>
              </a:rPr>
              <a:t>galleries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Arial"/>
                <a:hlinkClick r:id="rId9"/>
              </a:rPr>
              <a:t>/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Arial"/>
                <a:hlinkClick r:id="rId10"/>
              </a:rPr>
              <a:t>ms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cc"/>
                </a:solidFill>
                <a:uFillTx/>
                <a:latin typeface="Arial"/>
                <a:hlinkClick r:id="rId11"/>
              </a:rPr>
              <a:t>http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Arial"/>
                <a:hlinkClick r:id="rId12"/>
              </a:rPr>
              <a:t>://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Arial"/>
                <a:hlinkClick r:id="rId13"/>
              </a:rPr>
              <a:t>world.lib.ru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Arial"/>
                <a:hlinkClick r:id="rId14"/>
              </a:rPr>
              <a:t>/s/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Arial"/>
                <a:hlinkClick r:id="rId15"/>
              </a:rPr>
              <a:t>smirnow_t_l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Arial"/>
                <a:hlinkClick r:id="rId16"/>
              </a:rPr>
              <a:t>/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Arial"/>
                <a:hlinkClick r:id="rId17"/>
              </a:rPr>
              <a:t>bulgakov.s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cc"/>
                </a:solidFill>
                <a:uFillTx/>
                <a:latin typeface="Arial"/>
                <a:hlinkClick r:id="rId18"/>
              </a:rPr>
              <a:t>http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Arial"/>
                <a:hlinkClick r:id="rId19"/>
              </a:rPr>
              <a:t>://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Arial"/>
                <a:hlinkClick r:id="rId20"/>
              </a:rPr>
              <a:t>obozrevatel.com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Arial"/>
                <a:hlinkClick r:id="rId21"/>
              </a:rPr>
              <a:t>/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Arial"/>
                <a:hlinkClick r:id="rId22"/>
              </a:rPr>
              <a:t>news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Arial"/>
                <a:hlinkClick r:id="rId23"/>
              </a:rPr>
              <a:t>/2006/1/27/83471.htm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Что такое «мистика?»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вера в божественное, в таинственный, сверхъестественный мир и возможность непосредственного общения с ни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нечто загадочное, необъясним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определения из толкового словаря Ожегова и Шведовой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58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оман известного русского писателя Михаила Афанасьевича Булгакова (1891-1940) "Мастер и Маргарита" особняком стоит от всех его прочих работ. Это не просто блистательно написанное произведение, но и в самой полное мере - и литературная, и духовная сенсация одновременно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сё описанное писателем открывает нам некую закулисную действительность, невидимую игру разумных энергий, перед которыми человек, зачастую, как кукла-марионетка, бессилен. Отдельный читатель даже смеет предположить: "а вдруг так оно всё и было? - верю!", или - "а что, если все эти незримо действующие и влиятельные Силы и в самом деле существуют!?" - такова волшебная сила искусства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-36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романе нам встречается много мистических элемент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аких, как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Знакомство с 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Воландом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 и его коллегами по «тёмному цеху»…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1447920" y="2743200"/>
            <a:ext cx="510516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nochnojdozor_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5"/>
          <p:cNvSpPr/>
          <p:nvPr/>
        </p:nvSpPr>
        <p:spPr>
          <a:xfrm>
            <a:off x="2209680" y="5688720"/>
            <a:ext cx="4392720" cy="5101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Bookman Old Style"/>
                <a:hlinkClick r:id="rId2"/>
              </a:rPr>
              <a:t>Бал в честь 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Bookman Old Style"/>
                <a:hlinkClick r:id="rId3"/>
              </a:rPr>
              <a:t>Воланда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Bookman Old Style"/>
                <a:hlinkClick r:id="rId4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2b2b2"/>
                </a:solidFill>
                <a:latin typeface="Arial"/>
              </a:rPr>
              <a:t>- Булгаков великолепно описывает сцену обретения  способности полёта Маргариты при помощи чудесной мази Воланда...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"Сердце Маргариты страшно стукнуло, так что она не смогла даже сразу взяться за коробочку… Кончиком пальца Маргарита выложила небольшой мазочек крема на ладонь, причём и лесом, и затем ладонью начала втирать крем в лоб и щёки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 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"Маргарита летела беззвучно, очень медленно и невысоко, примерно на уровне второго этажа. Но и при медленном лёте, у самого выхода на ослепительно освещенный Арбат, она немного промахнулась и плечом ударилась о какой-то освещенный диск, на котором была нарисована стрела. Это рассердило Маргариту. Она осадила послушную щётку, отлетела в сторону, а потом, бросившись на диск внезапно, концом щётки разбила его вдребезги. Посыпались с грохотом осколки, прохожие шарахнулись, где-то засвистели, а Маргарита, совершив этот ненужный поступок, расхохоталась"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8229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- Кот Бегемот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133720" y="1676520"/>
            <a:ext cx="518148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тудент</cp:lastModifiedBy>
  <dcterms:modified xsi:type="dcterms:W3CDTF">2010-04-07T05:57:30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